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F4E1-89F1-4456-9291-EE9096B4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F781-C383-4B6D-8764-53C83D09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E066-8C5F-40A9-B94F-291B8BDB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D7B7-25BD-4A3E-949D-D9E85156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3EB1-8E2F-4478-B707-B8890765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2C49-FB82-4D1B-938A-A520A798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5BAC-8532-4619-B985-BDD45B43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DFDD-104B-43E7-B9A8-586979C4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9367-3481-4D20-8F9E-88BFFD7A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CAF5-DA29-468A-953E-192977C1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C995-6CE5-4FA3-BD89-93517CFA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51B3-0CD6-44EB-96A8-C8F17A0A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396E-348A-4E8A-9EDC-64C2101F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2DE8-93BA-4DBD-840C-0EEF3FE3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3539-3B0E-4635-8C85-B0E1620D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C656-83F9-44B1-97F3-77B05EF0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D417-D8ED-4901-A49C-A042341E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BD2C-2265-4275-8FE6-E40B6467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4FAF-FDEE-4D77-B6BF-E958DC44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F085-0FF6-404A-84C6-DEFE06F7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586D-E019-4099-AF24-DFCD09DD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936F-9A84-4C5F-8F77-480A9C5C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BEC2-4D22-4A59-AD21-3DC1759B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AADE-5D13-4B94-A5D6-90C319D3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3E79-EF2E-480E-AA24-06C946BE777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C2F8-3B85-46A2-BE81-4C74B546769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ext Feature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apted from the Reader’s Handboo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b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lps the reader identify a picture/photograph and/or its par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3959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lp the reader understand where things are in the worl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981080" y="2895480"/>
            <a:ext cx="47977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s of Pri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lps the reader by signaling, “Look at me! I’m important!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O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Itali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lo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stellar"/>
              </a:rPr>
              <a:t>Fo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lps the reader understand by representing information in different for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gr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e Li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ph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Bo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lps the reader by provid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y ter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s the major chapters and parts of a book along with their page numb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urpose of a table of contents is to help you find specific parts of the book quickly and easi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of Content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695520" y="1279800"/>
            <a:ext cx="745164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ble of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eography of the United States……………………………………p.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ative Americans and Their Land………………………………….p.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ative American Cultural Regions………………………………….p.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y Europeans left for the New World……………………..p.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MPj04394700000[1]" descr=""/>
          <p:cNvPicPr/>
          <p:nvPr/>
        </p:nvPicPr>
        <p:blipFill>
          <a:blip r:embed="rId1"/>
          <a:stretch/>
        </p:blipFill>
        <p:spPr>
          <a:xfrm>
            <a:off x="3429000" y="4495680"/>
            <a:ext cx="19782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de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index at the very back of the textbook gives the location of every important idea, term, definition, person, and pla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index is a search too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de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-------------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ckson, Andrew, 16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mes I (Britain), 61, 62, 6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mestown, 59, 61, 6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pan, 2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efferson, Thomas, 94, 100, 123, 12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lossary is an alphabetized list of key people, places, events, and terms.  It is a tool to help you understand the language of the subjec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urpose of the glossary is to give you the specialized language of the subject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boli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(AB uh LIHSH uhn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n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the movement to end slavery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ff"/>
                </a:solidFill>
                <a:latin typeface="Comic Sans MS"/>
              </a:rPr>
              <a:t>(p.440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Key term in bo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Pronunci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800"/>
                </a:solidFill>
                <a:latin typeface="Comic Sans MS"/>
              </a:rPr>
              <a:t>Part of spee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Defini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Comic Sans MS"/>
              </a:rPr>
              <a:t>Page where term is us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vide the reader with an image in order to understand exactly what something/someone looks lik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otograp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llust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in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ords in and around a photograph or illustr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lps give a better understanding of what is depicted in the pictu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19:09:59Z</dcterms:created>
  <dc:creator>ccps</dc:creator>
  <dc:description/>
  <dc:language>en-US</dc:language>
  <cp:lastModifiedBy>CCPS</cp:lastModifiedBy>
  <dcterms:modified xsi:type="dcterms:W3CDTF">2008-12-02T15:17:54Z</dcterms:modified>
  <cp:revision>7</cp:revision>
  <dc:subject/>
  <dc:title>Text Features</dc:title>
</cp:coreProperties>
</file>